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219-562C-483F-848D-57851C70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581-0B3B-4AB3-82AD-061220A8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5FF-2757-4904-9717-F256A1B0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5D6-5E3D-49DD-AC75-9A99C28B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3314-1882-445D-85D1-35C45477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3C18-8187-4A65-A79A-D877A825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2A8D-A882-456B-80DB-B8F9065D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0AF9-0785-4471-A886-60263B35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D897-D659-4872-8B50-BDD3F359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445F-6559-462C-87AD-D9B0E978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7115-4AD0-40D3-A05A-6AFFA519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9EC-38D6-4AE3-B69A-0037FC08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4FCC-157E-4BB4-9759-25824372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1801-7830-4E8A-8645-6E82EF44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CD14-C16C-4F4F-A76E-21C21609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0652-DDB9-4CDD-B601-AEC2F48D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2EBB-155F-472A-AA56-4F9DBF40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3928E-2517-402D-BD4B-F465D823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A13C-F2E2-4DE9-A0FB-22299295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F56A-509D-4B24-9BA8-46F9E17A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6050-E46B-4EBB-8D5E-555694A0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2941-3D12-417E-ABCC-09096341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76D-20FA-4C0C-9CFA-21DED2A2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80D96-C773-407A-85C3-28829404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62E9-6FB1-4A2D-9040-F5BD1D0A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AF5C-A336-492A-B914-1A2BCD43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05D8-881C-418E-A32D-A9B4D2EE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B4B3-5A43-4E23-821B-58AEE01B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64C8-59B3-4815-BB7C-ACA6AEF8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B61E-3AAB-43BD-A56C-CB216D3B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EF414-CFC5-42D0-BFB5-28A1B2F2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F1B0B-4A61-4B80-9C0C-0406270D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0E5D5-6B42-44C3-871A-FC22571D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4F4-A4BA-4B3B-9F06-4AC5716D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CDE74-15C9-40E9-AAEC-71C85735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27A35-C606-4591-A5CE-B1B47DA5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58D58-DBDF-492C-AD90-14473725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5B0AA-E50F-4F6F-8C03-EEB62D38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37678-430C-42D2-A143-0AB998B3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77002-B441-4401-8506-67858E4F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EB6B0-AF50-4C5E-8D50-45E4CB01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67655-7D5F-4361-B57A-5D6279E3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6935-A24C-4F0A-AF12-C60FE034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54A8-7307-40B6-BFF4-2DB7627C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4BF-56DD-4311-97C1-A03189CA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98F84-61A0-4451-9AAA-48F0EFB3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CFFE7-D253-4CDA-BF95-54DFEB02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E304-DB5D-485F-965E-E87F65D2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2EA7E-FB09-4D61-8C69-97DA7CFE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D2896-6C18-4F6B-8286-2BD20A46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68166-A2D4-4ECA-ADEB-43408CCC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A00EF-38CB-47E8-994C-222693B6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D5301-A17E-4805-A5CD-87C8865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C12B6-C974-4B39-88F7-09465825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DA3AD-637D-41EF-9580-EB09B6EC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0AC-40EE-4AEF-8019-7B0F121F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8B572-F80E-434B-A762-04CFE876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E7476-CFB9-4DD3-A336-C6E464BB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EC429-C27E-4EBB-A7F7-3E0C2656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5C272-DD7B-4089-B3B9-722BBA87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9C7F3-E5B4-4DCA-A7C8-5693CC5D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17D03-9871-4363-91AB-6BBA3957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3A3D5-1CF4-478A-9E3A-AD0F4470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41724-D294-4673-AE78-3C676DFD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7D287-7C62-4B3B-A06D-9037BBC8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EAFF5-E726-4734-9481-62F5E20F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E34-2648-4073-ADCB-7AFA7C16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43F68-0589-4B12-8E9F-38E15A0D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90A18-DBB8-4773-A32E-8D977867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429FA-A67D-4A3C-A76D-50714ECE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4CDC6-25B6-44EE-90FF-C648875D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58FBA-E460-4523-A818-95B629D7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F3132-E1CA-44B9-A0E8-F49E1A0D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EA1DE-DC2C-4BB0-AAD7-E6B084D1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87A6A-B9F0-48EF-B3FF-F8F3A671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8F46D-29A5-43A6-B529-8159C206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1D861-7963-4D28-AFF6-0AE70A38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C79-2F2A-4624-9AD7-2D743BAF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80EAC-CC90-4611-8C42-9BB4CF92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1367E-4896-4731-9A99-791075ED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61F61-284F-48C5-85E1-F3756159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36484-F234-4268-B426-ACF7CDE1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0C358-1E2F-42A0-8CC3-22FA275F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2F2-E6F0-4912-8C9A-2484C050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E895-BB70-4BE2-A9DA-07266906B063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B6DC-0176-423F-857A-12EA1CEC9B13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25BC-547D-4F14-932F-3AB69CD8FB14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EB50-131B-4A1C-A0A4-FCB6310000BA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BAB6-9C7B-4471-8544-70323C0DF888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0E4F-C1BC-4E33-BB4F-A85DF6ADD5C2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7350-DDF9-43B1-A3F2-7F064253D1E4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ardenia.ru/pages/sady036.htm" TargetMode="External"/><Relationship Id="rId2" Type="http://schemas.openxmlformats.org/officeDocument/2006/relationships/hyperlink" Target="http://www.gardenia.ru/pages/sady036.htm" TargetMode="External"/><Relationship Id="rId3" Type="http://schemas.openxmlformats.org/officeDocument/2006/relationships/hyperlink" Target="http://leit.ru/modules.php?name=Pages&amp;pa=list_pages_categories&amp;cid=43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141264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Виды японского сада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292720" y="4797000"/>
            <a:ext cx="3517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554"/>
                </a:solidFill>
                <a:latin typeface="Corbel"/>
              </a:rPr>
              <a:t>Автор: Сидоров А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554"/>
                </a:solidFill>
                <a:latin typeface="Corbel"/>
              </a:rPr>
              <a:t>10 «А»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Ресурс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История искусства японского са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Стилистика японского са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Японский сад. Стать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ебник «МХК» 10 класс по ред.      Л.Г. Емохонов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497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488b"/>
                </a:solidFill>
                <a:latin typeface="Corbel"/>
              </a:rPr>
              <a:t>Цель работы: </a:t>
            </a:r>
            <a:br>
              <a:rPr sz="4800"/>
            </a:br>
            <a:br>
              <a:rPr sz="4800"/>
            </a:b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Провести исследование по истории японского сада и выяснить какие виды японского сада существуют и в чем их особенность.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Содержимое 4" descr=""/>
          <p:cNvPicPr/>
          <p:nvPr/>
        </p:nvPicPr>
        <p:blipFill>
          <a:blip r:embed="rId1"/>
          <a:stretch/>
        </p:blipFill>
        <p:spPr>
          <a:xfrm>
            <a:off x="749160" y="1407960"/>
            <a:ext cx="8218800" cy="48466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1258920" y="765000"/>
            <a:ext cx="741672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Виды японского с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97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488b"/>
                </a:solidFill>
                <a:latin typeface="Corbel"/>
              </a:rPr>
              <a:t>Райский сад</a:t>
            </a:r>
            <a:endParaRPr b="0" lang="en-US" sz="4000" spc="-1" strike="noStrike">
              <a:solidFill>
                <a:srgbClr val="11488b"/>
              </a:solidFill>
              <a:latin typeface="Corbel"/>
            </a:endParaRPr>
          </a:p>
        </p:txBody>
      </p:sp>
      <p:pic>
        <p:nvPicPr>
          <p:cNvPr id="324" name="Рисунок 4" descr="070720_01.jpg"/>
          <p:cNvPicPr/>
          <p:nvPr/>
        </p:nvPicPr>
        <p:blipFill>
          <a:blip r:embed="rId1"/>
          <a:stretch/>
        </p:blipFill>
        <p:spPr>
          <a:xfrm>
            <a:off x="4133880" y="3279600"/>
            <a:ext cx="4510080" cy="33894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684360" y="907920"/>
            <a:ext cx="820872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Первые японские сады, как особый вид искусства, появились в эпоху Хэйан. Это был период формирования первого чисто японского стиля садов – стиля Дзёдо, или природного пейзажа (Дзёдо – «рай, чистая земля, совершенство»). В основном это были дворцовые и усадебные сады, которые в своей основе были светскими, но при этом также сохраняли дух религиозно-философского отношения к природе, а именно идеи культа Будды Амиды. Главной особенностью этого сада было то, что создаваемый в саду пейзаж обязательно должен был быть копией какого-то конкретного природного пейзаж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1332000" y="537372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Храм Феникса (1052) в ансамбле Бёдоин в Уд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Пейзажный сад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pic>
        <p:nvPicPr>
          <p:cNvPr id="328" name="Рисунок 3" descr="7f5BUp2Y.jpg"/>
          <p:cNvPicPr/>
          <p:nvPr/>
        </p:nvPicPr>
        <p:blipFill>
          <a:blip r:embed="rId1"/>
          <a:stretch/>
        </p:blipFill>
        <p:spPr>
          <a:xfrm>
            <a:off x="1109520" y="3786120"/>
            <a:ext cx="3986280" cy="2681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1042920" y="1052280"/>
            <a:ext cx="7850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В ХIV–ХVI веках садово-парковое искусство Японии достигает наивысшего расцвета. К этому времени определились каноны создания японских садов. Сложился и основной стиль японского сада – пейзажный. Заимствованный из Китая, он был доведён японцами до филигранного совершенства на основе национальных традиций и самобытн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5292720" y="5732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Пейзажный сад Коракуэн префектуры Окая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Философские сад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Философские типы садов (дзен) создавались в целях медитации при буддийских храмах. К таким садам относятся: сад камней и сад мхов. При их создании используются только камни, гравий и мох. Каждая деталь такого сада способствует, по буддийскому учению дзен, обретению «пустого сердца». Обретение «пустого сердца» _x001f_- так в эстетике дзен обозначается внезапное «пробуждение» сознания, достижение просветления в текущей жизни, чувство слияния с великой Пустотой, которая олицетворяет высшую природу Будд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042920" y="260280"/>
            <a:ext cx="78501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17375e"/>
                </a:solidFill>
                <a:latin typeface="Corbel"/>
              </a:rPr>
              <a:t>Сад храма Рёандзи («храм Умиротворённого дракона») в Киото - вершина японского искусства садов камн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Рисунок 3" descr="kyoto_5.jpg"/>
          <p:cNvPicPr/>
          <p:nvPr/>
        </p:nvPicPr>
        <p:blipFill>
          <a:blip r:embed="rId1"/>
          <a:stretch/>
        </p:blipFill>
        <p:spPr>
          <a:xfrm>
            <a:off x="1901880" y="1768320"/>
            <a:ext cx="598644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Чайные сад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    </a:t>
            </a: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Дзэнская культура создала ещё одну замечательную разновидность японского сада – сад чайной церемонии . Он был новым не по форме, но по его функциональному назначению. Сад, ведущий ко входу в чайный домик, выступает важным компонентом в этой церемонии, помогая участникам правильно настроиться на предстоящее действо. Эстетика сада целиком соотносится с идеалами Чайной церемонии: простота, скромность, неброское очарование, духовное единение всех участников церемо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Вывод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10920" y="1052640"/>
            <a:ext cx="82515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Исследовав историю зарождения и развития японского сада мы выделили 4 вида сада: райский сад, являющийся первым видом искусства японского сада, пейзажный  сад, продолживший традиции райского сада, философский сад, приобретший необычный вид  и глубокое религиозно-философское наполнение, а также чайный сад, гармонично сочетающий в себе пейзажный стиль и философию буддизма. Каждый из видов сада по своему оригинален и предполагает достижение определенной цели: постижение мира, получения наслаждения, созерцание прекрасного. На основании изученного нами материала можно сделать следующий вывод. Садово-парковое искусство Японии, более чем какое-либо другое, выражает своеобразное идейное отношение японской нации к природе. Это отношение своими корнями уходит в начало национальной японской религии – синтоизм, начиная по-новому звучать с приходом буддизма и</a:t>
            </a:r>
            <a:r>
              <a:rPr b="0" lang="en-US" sz="2000" spc="-1" strike="noStrike">
                <a:solidFill>
                  <a:srgbClr val="17375e"/>
                </a:solidFill>
                <a:latin typeface="Gill Sans MT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дзен-буддизма. Каждая грань этой философии  и религии находит отражение в саде, порождая на свет новые его виды, которые тут же становятся тонким искусством и предметом восхищения многих челов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5:26:17Z</dcterms:created>
  <dc:creator>DNA7 X64</dc:creator>
  <dc:description/>
  <dc:language>en-US</dc:language>
  <cp:lastModifiedBy>DNA7 X64</cp:lastModifiedBy>
  <dcterms:modified xsi:type="dcterms:W3CDTF">2011-04-11T22:40:47Z</dcterms:modified>
  <cp:revision>41</cp:revision>
  <dc:subject/>
  <dc:title>Слайд 1</dc:title>
</cp:coreProperties>
</file>